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ABDE-5BA4-4ADC-91DE-DE3FDF96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00525-183E-49D4-8BFC-2DABEB8A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133EC-5A3C-4D5F-9432-2B85D40B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BD529-8516-4A3C-B6B7-53E29984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362E-73AE-4020-9DFF-82C25C03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FCA2-6060-4B2A-BE37-9447820B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E82B-D072-4429-B873-803FDADA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5756-3B59-407D-8C5F-A7AAA6D6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FBA3-8D3C-4304-B892-6BDBFEB2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DA5B-2949-41FE-8408-3267A829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1746-358B-442B-942E-1E49920E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EDF9-46DE-4C7D-9A7B-C90499A1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5C44-E428-48B6-9DEF-5A10C7B4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A96A-9355-4CA6-8968-A5427787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105D-8154-4084-878C-94EC1433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010C-A1C9-4568-9137-A1265E58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77FE-7281-41BA-9303-2054E80D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E5A3-15A3-42F7-AFDB-C82583AF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DD98A-0256-4E26-BD59-B69BE7A4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36A09-2D44-4B34-85BB-9EB993AB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F8FC9-2EDF-4F1E-B602-B244C8B6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6A17C-5261-4EA6-9FC0-41849668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63EDE-001F-403B-A5D3-14E4AA12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40B9B-AEE5-454B-9118-BF9FD1BF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3917-AA1F-4032-8F06-D2B898B3F1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DF4C-69E7-4A4A-B0CB-3AA8EBCAC8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pereira@usp.br" TargetMode="External"/><Relationship Id="rId2" Type="http://schemas.openxmlformats.org/officeDocument/2006/relationships/hyperlink" Target="mailto:pereirace@uol.com.br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Escolha Social, Estratégia e Racionalidade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Uma Introdução à Teoria dos Jogos na Polí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la 9 (17/10/2004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ogos de Repetição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fessor: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Carlos Per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apereira@usp.b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pereirace@uol.com.b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icações dos jogos de repetição finit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um jogo finito, em que o jogo-base é do tipo dilema do prisioneiro, não temos razão para acreditar que os jogadores adotaão estratégias cooperativ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o da Cadeia de Loj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39337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771640" y="3141360"/>
            <a:ext cx="1079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4076640"/>
            <a:ext cx="122400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32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465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en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242100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eia de Lo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643280" y="2565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3141720"/>
            <a:ext cx="8654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0" y="234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36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,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2205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3716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L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450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ox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 se essa mesma situação tivesse que se repetir em por exemplo 15 cidades diferentes, não seria mais racional para a “Cadeia de Lojas” lutar em uma das cidades para estabelecer uma reputação de “dura” na competiçã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 sempre as recompensas dos jogadores, associadas às suas estratégias, são de conhecimento comum. Ou seja, além de ser um jogo de informação perfeita pode também ser de informação incomple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posição de que as interações são finitas são raramente verificáveis na re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 modelo mais adequado para esse tipo de análise seri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jogos infinitivamente repe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Equilíbrio Perfeito em Subjogos Repetidos Fin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jogo repetido finit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vezes, em que o jogo base apresenta apenas um equilíbrio de Nash, possui um único equilíbrio de Nash perfeito em subjogos, o qual consiste em jogar o equilíbrio de Nash do jogo-base em todas a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ta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so também é verdade no caso de um jogo repetido em que o jogo base apresenta mais de um equilíbrio de Nash. Ou seja, equilíbrios de Nash no jogo-base pode constituir equilíbrios de Nash perfeito em subjo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r exemplo das páginas 157 e 158. Jogos repetido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zes cujo o jogo-base possua mais de um equilíbrio de Nash podem ter equilíbrios de Nash perfeitos em sub-jogos que envolvam resultados, em alguma da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repetições do jogo-base, que não sejam equilíbrios de Nash do jogo-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jogo do cartel partidário simplificad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Subjogos do Jogo Repetido Finito do Cartel Partid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8360" y="1700280"/>
          <a:ext cx="8229600" cy="4914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1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 da Primeira Et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ogo a partir de {coopera, coopera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ogo a partir de {Não coopera, coopera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 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ogo a partir de {coopera, Não coopera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ogo a partir de {Não coopera, Não coopera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gos Infinitivamente Repet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á que a indefinição de quando o jogo acaba é indutora de cooperação mesmo em situações que os ganhos de curto prazo pela não cooperação são mai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smo em interações estratégicas do tipo dilema do prisioneiro (onde o equilíbrio de Nash representa uma situação ineficiente do ótimo de pareto porque a não cooperação por parte de um jogador, enquanto os demais cooperam, geram recompensas de curto prazo maiores do que a cooperação) há uma boa possibilidade de se desenvolver cooperação desde que a interação entre os jogadores seja infini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mos analisar o jogo do cartel partidário como se os atores não soubessem quando ele acab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sses jogos precisamos descontar o valor futuro da manutenção do cartel. Ou seja, precisamos atualizar o valor futuro das repensas do jogo; ou seja, trazê-lo para o pres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atores normalmente são avessos ao risco; ou seja, eles valorizam muito mais $1 hoje do que $1 amanhã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or de Desconto 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fator de desconto δ está associado a taxa de desconto (em geral à taxa de juros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 seguinte 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 = 1/1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por exemplo se a taxa de juros é 5%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á 0,05 e o fator de desconto será 1/(1,05) = 0,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do os jogadores aplicam uma taxa de descon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bre valores futuros, de tal forma q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, diz-se que os jogadores possue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ferências intertempora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que é um jogo repeti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o próprio nome indica, é um jogo que se repete em um número finito ou infinito de vezes. Ou seja, lidam com processos de interação estratégica que se desenrolam no tempo e, desse modo, possuem um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ó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jogo que se repete é conhecido como “jogo-base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ora os jogadores conheçam as decisões que foram tomadas nas etapas anteriores, a cada nova etapa os jogadores decidem sem conhecerem o que os demais jogadores estão decidindo naquela eta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fator de desconto δ pode ter outras dimensõ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nha que um jogador saiba que existe uma dada probabilidade de cada repetição do jogo ser a última. Assuma, por exemplo, que esta probabilidade é de 5%. Assim, os jogadores saberiam que, a cada repetição, haveria uma chance de 5% de que o jogo se encerrasse ali. Se os jogadores não possuíssem preferências intertemporais, o fator de desconto expressaria apenas a probabilidade de que o jogo não continuasse no futuro.Teríamos então: δ = 1 – 0,05 = 0,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 os jogadores tivessem preferências intertemporais, sendo a probabilidade do jogo terminar a cada repetição dada po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 a taxa de desconto novamente dada  po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o fator de desconto δ seria dado por: δ = 1 –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1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nha que um jogador receba por uma dada estratégia em um jogo infinitivamente repetido uma sucessão infinita de valores idênticos a $1. Teremos que aplicar a esses valores o fator de desconto δ da seguinte forma: o valor $1 recebido no período inicial não se aplica fator de desconto. A esse valor somamos ($1) X δ. Assim sucessivame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 + 1δ + 1δ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+ 1δ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+ ... 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-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a expressão é o valor presente; isto é, o valor descontado da série infinita de recompensas que é chamad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a + aδ + aδ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+ ... =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 1 –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os valores forem diferentes em cada etapa você pode tirar o valor médi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 (1 – δ) =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ada repetição do jogo, as estratégias do jogo devem permanecer constantes. Ou seja, o que muda ao longo do processo de interação estratégica é a história do jogo; isto é, o registro de como os jogadores se comportaram até o pres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jogo é finito ou infini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tando-se de um jogo finito, quão distante uma dada etapa está do término do jo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problema do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r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is são as dificuldades inerentes a sustentação do cart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artel acontece quando atores com interesses semelhantes podem cooperar explícita ou implicitamente com o objetivo de obterem maiores retornos (empresas, coalizões políticas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que cooperar com o grupo principalmente nas situações em que os retornos são maiores com a defecção no pres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is mecanismos que o cartel dispõe para evitar comportamentos desviantes e não cooperativos por algum de seus membros Quais são as dificuldades inerentes a sustentação do cart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jogo do cartel como jogo simultâne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, 1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 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, 1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, 1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es do jogo simultâne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interações entre empresas (ou, por exemplo, partidos políticos) que convivem em um mesmo setor não ocorrem apenas uma ve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rática as empresas (e os partidos) interagem continuamente definindo a quantidade que será produzida de tal forma que a decisão de respeitar ou não a meta do cartel se repete ao longo do t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 isso, precisamos de um outro jogo que dê conta dessa peculiar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gos Repetidos Finit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ponha agora que dois partidos, PT e PMDB, tomam a decisão de votar de forma cooperativa em dois perío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ponha também que esses partidos decidem simultaneamente como votar no primeiro períod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segundo período, conhecendo como eles votaram no primeiro, os dois partidos voltam a decidir simultaneamente como vo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averá chances do Cartel partidário se sustentar ag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jogo do cartel como jogo simultâne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Coop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da a repetição, Indução Invers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que os partidos fariam na segunda etapa do jog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tando-se esta etapa como um jogo simultâneo, percebe-se que a escolha {não cooperar} gera resultados sempre melhores do que a escolha de ação {cooperar}. Assim, é razoável se supor que os partidos não irão coope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que os partidos fariam na primeira etapa do jogo? A opção cooperar na primeira etapa do jogo não poderia induzir cooperação na etapa segui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o não ocorre, pois como não há nenhuma interação futura que justifique na segunda e última etapa do jogo. A conseqüência é que a cooperação não ocorre em nenhuma das etapas desse jogo e o cartel político não se sustenta em nenhum mo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 mesmo resultado seria obtido mesmo que o jogo fosse jogado 100 vezes, pois na centésima e última vez os partidos não teriam incentivo para cooperar uma vez que isso não induziria qualquer cooperação futura (ex. governos de coalizã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9:06Z</dcterms:created>
  <dc:creator>Carlos Pereira</dc:creator>
  <dc:description/>
  <dc:language>en-US</dc:language>
  <cp:lastModifiedBy>Carlos Pereira</cp:lastModifiedBy>
  <dcterms:modified xsi:type="dcterms:W3CDTF">2004-10-27T15:29:25Z</dcterms:modified>
  <cp:revision>36</cp:revision>
  <dc:subject/>
  <dc:title>Escolha Social, Estratégia e Racionalidade:  Uma Introdução à Teoria dos Jogos na Polít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06669424</vt:r8>
  </property>
  <property fmtid="{D5CDD505-2E9C-101B-9397-08002B2CF9AE}" pid="3" name="_AuthorEmail">
    <vt:lpwstr>capereira@usp.br</vt:lpwstr>
  </property>
  <property fmtid="{D5CDD505-2E9C-101B-9397-08002B2CF9AE}" pid="4" name="_AuthorEmailDisplayName">
    <vt:lpwstr>Carlos Pereira</vt:lpwstr>
  </property>
  <property fmtid="{D5CDD505-2E9C-101B-9397-08002B2CF9AE}" pid="5" name="_EmailSubject">
    <vt:lpwstr>Teoria dos Jogos Novas aulas</vt:lpwstr>
  </property>
</Properties>
</file>